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9D4-1F50-4CBE-BFC7-C5AED525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DE8-45E7-495E-B6E7-3780C71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79E-01EE-4980-A1FF-6BC87AB9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8C0-B6F1-45E1-833C-D11F4B1F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255-B6DA-43B0-A5E9-5D526117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14A-B7F2-49EA-A167-7943D5A9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648-C02F-4F46-B116-A756497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F2F-5CAB-45CC-831F-BEFE174C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36E-4956-4CCC-BF50-EB4C2C5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B2B-BC69-4FB4-ACDD-C48B818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35C-1169-41DD-B5B2-CEE4748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8B4-DAAE-4C38-A07F-478340D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A5A-0B76-41BC-A623-9D1AAC21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ccff33"/>
            </a:gs>
            <a:gs pos="100000">
              <a:srgbClr val="ff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25312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0"/>
            <a:ext cx="7848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ccff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oadway"/>
              </a:rPr>
              <a:t>Popsicl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ccff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pic>
        <p:nvPicPr>
          <p:cNvPr id="43" name="" descr="Epperson"/>
          <p:cNvPicPr/>
          <p:nvPr/>
        </p:nvPicPr>
        <p:blipFill>
          <a:blip r:embed="rId1"/>
          <a:stretch/>
        </p:blipFill>
        <p:spPr>
          <a:xfrm>
            <a:off x="228600" y="4172040"/>
            <a:ext cx="1828800" cy="26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525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Epperson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16765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auhaus 93"/>
              </a:rPr>
              <a:t>Lemelsons MIT Progr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Bauhaus 93"/>
              </a:rPr>
              <a:t>The Popsi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auhaus 93"/>
              </a:rPr>
              <a:t>January 11, 2011,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419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Bauhaus 93"/>
              </a:rPr>
              <a:t>The Popsicles are almost 100 years o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odoni MT Black"/>
              </a:rPr>
              <a:t>Invention: Popsi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In the 1925 the popsicle rights were sold to the Joe Lowe company in New York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Children thought of the nam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The sticks were made of Birch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The model was made with two sticks for children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auhaus 93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invented the popsicle when he was only 11 years 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born in 1884 and raised in San Frans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More then 18 years later ,in 1923 he apply for a patent on his frozen t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called it the “Eppsicle ice pop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is children called it th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5Z</dcterms:created>
  <dc:creator>install</dc:creator>
  <dc:description/>
  <dc:language>en-US</dc:language>
  <cp:lastModifiedBy>install</cp:lastModifiedBy>
  <dcterms:modified xsi:type="dcterms:W3CDTF">2011-01-14T17:10:56Z</dcterms:modified>
  <cp:revision>9</cp:revision>
  <dc:subject/>
  <dc:title>Slide 1</dc:title>
</cp:coreProperties>
</file>